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8CA4-86E3-4E0C-ADF2-5C25EFC95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7F2F-8E29-4C8D-B51A-1BC733E3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D7E7-75FB-41D6-88D5-D390D29FC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6088-0694-4D9F-A2CF-9A0F0FA59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D491-BC4D-4943-86CB-A9C895CEA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933E-9BA8-4F3D-9E83-D271838C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EB67-5089-46B9-8CE8-B9D2F021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7B90-77C1-44E1-BC33-5C512C3B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2855-F312-4674-9ED9-D293EAC4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F907-9ADF-4953-B63D-1062019D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7C2C-F07D-4129-B381-5CC0BEBE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B5F1-0AC4-44A7-B31F-3C1279F3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EBD46-4F49-4B4C-B40D-4BB86556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60B3-2158-43AF-A2BC-4AF48457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D4B2-89E2-40A5-991E-313AD156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5DDF-4599-4F3D-AE7E-6E2A39196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29A9-CFEF-42F2-82EC-4B2943B3F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9014-7234-4A50-A8BD-1F99AA15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F44C-3F11-470C-A985-FBF491AE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5B17-61E8-4EBC-805E-BF5840C7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B617-5B42-4D8C-9994-B6BEC2F9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1DEB-63A6-46AD-A182-A7FA65CE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CD8F-A8F8-43DC-8FAB-32E07686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29AD-3FF1-4319-91B2-F7D4EA42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EE4B-29F7-4948-AC1D-38F595B3E1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A260-1956-434B-AFCE-CBFD6E92FE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Johnathan Stewar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-a system for sending messages from one individual to another via telecommunications links between computers or termin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C-An international computer network of Internet servers, using its own protocol through which individual users can hold real-time online convers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BS-bulletin board system: a computerized facility, accessible by modem, for collecting and relaying electronic messages and software progra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-hypertext transfer protocol: the standard protocol for transferring hypertext documents on the World Wide We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P-File Transfer Protocol: a software protocol for exchanging information between computers over a net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net-An Internet communications protocol that enables a computer to function as a terminal working from a remote compu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pher-a protocol for a menu-based system of accessing documents on the Intern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anet-a computer network with restricted access, as within a company, that uses software and protocols developed for the Int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 wall-an integrated collection of security measures designed to prevent unauthorized electronic access to a networked computer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net-an intranet that is partially accessible to authorized persons outside of a company or organiz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Profiling-A marketing technique that collects online data about consu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kies-a message, or segment of data, containing information about a user, sent by a Web server to a browser and sent back to the server each time the browser requests a Web p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net-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mpute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tensive system of newsgroups: a branch of the Intern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dwidth-the transmission capacity of an electronic communications device or system; the speed of data transfer: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high-bandwidth Internet connectio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-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mpute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orkstation on a network that gains access to central data files, programs, and peripheral devices through a ser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sl-digital subscriber line: a technology that allows high-speed transmission of text, audio, and video, usually over standard telephone lines; a form of broadband transmis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ernet-a type of network technology for local area networks; coaxial cable carries radio frequency signals between computers at a rate of 10 megabits per second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iquette-the rules of etiquette that apply when communicating over computer networks, esp. the Intern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-the customs and regulations dealing with diplomatic formality, precedence, and etiquet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ology-a collection of open sets making a given set a topological sp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eless networks-refers to any type of computer network that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rel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is commonly associated with a telecommunications network whose interconnections between node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interface card- a circuit board that goes into the base unit of a computer or other device in a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p- internet provider is a company that offers access to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ite – a series of related web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6:27:37Z</dcterms:created>
  <dc:creator>762913</dc:creator>
  <dc:description/>
  <dc:language>en-US</dc:language>
  <cp:lastModifiedBy>762913</cp:lastModifiedBy>
  <dcterms:modified xsi:type="dcterms:W3CDTF">2009-04-14T17:37:18Z</dcterms:modified>
  <cp:revision>2</cp:revision>
  <dc:subject/>
  <dc:title>Johnathan Stewart</dc:title>
</cp:coreProperties>
</file>